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4A32B-6F1D-4645-B5E2-3ED6E7FD8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84903-24D2-4FA4-AE6D-919285BCF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F9566-EB9B-4183-BE95-296CDFBDA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6F5BB-32BD-4ABE-B51F-1856FAC7E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4B702-B9AF-44BB-A42C-3F248C6B8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1367C-2CAA-4371-9583-21DB6AFCF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3139F-2583-4427-99BA-10D9602BC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E9D1F-0D92-46BD-8479-508B73947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3E1CC-068E-4314-ADE7-37509CAD6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39663-39B4-46B8-B021-E0329C518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0EF8B-5255-499A-8B21-69F73CB04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23253-F9DF-41AC-AA8C-8948DBA30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71A5F-5024-4112-809A-1EEBF24AF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5F660-905C-420B-A784-BE96861F1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C0C93-D376-4DEF-BDFC-E8CDAAC08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806D9-490F-4000-A024-A33822243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ACF0F4-1C8F-4C65-95E9-38DE6B27C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D96C2B-05D5-48A6-9085-92015A8A66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9BAB52-A1B1-4CD1-9C9F-3A4DAA347D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4426EC-6261-46D7-A9B5-AE6DAD772D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EA105B-8BE8-4989-9464-B66B9C19DE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7ED64F-20A1-4C21-B354-8F377F9E54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C9E32-F3FE-405E-97AB-5A4BCC852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A399E5-C9FA-4458-9E81-7BB7D41026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DA213-DBE3-43E2-8738-61A9FB1F2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DF2284-48FF-468F-AF8D-5806130600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DC2081-AE45-4157-9CDC-F8570001E1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8475FA-4EBD-4A60-B802-AB9721A147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1BA025-263F-4387-9AC3-DF0D9C9080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8CB4AE-F451-4F14-B54E-22CC3BBEB3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6CEFF0-7307-4B30-93D9-46AC792227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DF93C1-A9FA-4494-9252-E6454A5853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F1BEA5-475C-4FE8-8B7B-2E506E3D07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B8450-A601-49E8-9B16-8572A0881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3E6EB8-357E-4A68-BCFE-2E0280E893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1D9833-8214-4E17-9372-774CCC355D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0B2D93-54A7-4C35-9389-DE66773491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73A977-4431-46AB-BF54-214DFF3ED9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B16FCF-6D3F-40A2-8568-DF65834F67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D44EA-4FC9-4CFB-B45E-E7A410DBF1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765F7C-98B5-416D-AFDE-0127DE2C86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8DC371-E471-4ED9-915A-62B9AF9FE9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EFD79C-BF31-4C4A-87B2-374CBB15BC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0C76CE-5522-4EEC-9972-2D6E22C0DF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DB2FC-35E5-4D21-919F-6479FA614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03C183-2275-4280-B8FD-4694BEEAEF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741314-C839-49CA-8A24-1C334A9A44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59F388-C2A3-4C7B-BB2B-5D212B93AD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D23B33-A234-4352-8452-9AA26A8117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E034B3-74CC-474C-9CC2-8457F1C350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4A6B25-D3C4-4885-A446-3291BBBB78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B9DB69-A828-4BCB-8EE7-F004746AA1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FBBA4-A8AD-4B21-AC47-A62D511217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3D4973-0D78-4935-973B-0C2BA80752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395684-C8FE-400B-B318-08FBB309F3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9187B-DA09-4542-9A7A-8F184A705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A0C338-330F-4828-8F0C-D2231320AD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510935-A5CB-4FD5-BC3A-ADA26288D0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D3237F-C665-45C0-9D19-BEE0FF8A3B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7ED102-1423-402E-826A-BB59B617CC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699111-4101-46F1-A000-8439088BC1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BF64B8-3639-4431-880F-081BC9927E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3BB4F3-E161-482A-8FDD-67A1A6B23E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ABC836-DC8A-4201-A70C-1CD3F0C6A9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DCC16B-4F17-43E2-8440-52C6D62597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DA3A1A-03F7-40D4-B127-3EC6801A18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28045-AF21-4327-AFFC-3E557BB29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95B523-62CC-4E3F-9CC9-2C0BADC952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E37FE8-DD46-4565-B6B6-E88BD8A4C7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DF3664-7A28-41A2-B571-9729F459F9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26CC20-9294-41F3-A0B2-3C242E15EB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B444AB-1681-4DF0-AEC5-C3C9AE1C17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BC9F4B-5EDA-42F9-9A02-3ECEC6262D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78F494-D721-4443-890D-2DF3D08C29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C6F5FA-9DE9-4214-BBAC-ADC4294B30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2A0CA9-79BA-4E72-8310-BD008A5670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FFC267-D0EB-40F2-838E-D42DEEAFC8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8275C-F9C8-47B8-B2F6-456A2D71D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260ECF-83AA-4D2F-B2ED-DA8C71FB78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3C799C-7A53-42D5-AD46-B4B955FF26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F80F84-66D7-420A-84D3-2664D9C0FB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42BC31-9E5E-4F33-A46B-978DB5F981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C9E91B-BB24-477F-B0F0-E5977F1ED8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10D9D3-8751-40AE-A4CB-EC527417F1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EF9520-4A5A-4D53-A48C-572CBAC29A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9A9A8F-3ED5-4EEC-82F1-AD0EDB67C7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CD63D4-6B79-4D32-AF30-6723F4B867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23592F-851B-4391-824F-D638719F9E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84282-D031-4B14-95CF-958704618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9111FF-2C3F-45AD-98E7-FA23D90FC1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104AE1-1249-4C20-B7B2-E36B912FA3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043507-CB20-43D1-B366-405BBEA5B5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1D2E40-AADF-459D-BFC7-F7BA08196C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8F8610-7141-40D2-A9F0-52F41EF4EC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0A2BA6-1B6B-4BF5-A8D0-F4546215FA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F1A10D-08A4-4FF9-AC7B-7CA798BD22A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5C54-4C67-46BE-907D-4EFD442A7FBD}"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Группа 15"/>
          <p:cNvGrpSpPr/>
          <p:nvPr/>
        </p:nvGrpSpPr>
        <p:grpSpPr>
          <a:xfrm>
            <a:off x="-3240" y="4952880"/>
            <a:ext cx="9147240" cy="1911600"/>
            <a:chOff x="-3240" y="4952880"/>
            <a:chExt cx="9147240" cy="1911600"/>
          </a:xfrm>
        </p:grpSpPr>
        <p:sp>
          <p:nvSpPr>
            <p:cNvPr id="49" name="Полилиния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Полилиния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Полилиния 19"/>
            <p:cNvGrpSpPr/>
            <p:nvPr/>
          </p:nvGrpSpPr>
          <p:grpSpPr>
            <a:xfrm>
              <a:off x="2520" y="4992120"/>
              <a:ext cx="9141480" cy="1872360"/>
              <a:chOff x="2520" y="4992120"/>
              <a:chExt cx="9141480" cy="1872360"/>
            </a:xfrm>
          </p:grpSpPr>
          <p:pic>
            <p:nvPicPr>
              <p:cNvPr id="52" name="Полилиния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Прямая соединительная линия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0F6A-19EA-41E3-B180-9F327CAC750A}" type="slidenum">
              <a:rPr b="0" lang="ru-R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Нашивка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C527-33AB-49F7-A2EE-26B8F353EF3A}"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7734-C145-4026-8C33-4B8D2DD2EFF7}"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F5F4-4822-4525-95E1-41AE5B1E0513}"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Полилиния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9E83B-490A-4964-849F-B5609187CDD4}"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964F7-2568-42EA-88E8-1FA8C20C99A7}" type="slidenum">
              <a:rPr b="0" lang="ru-RU"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Полилиния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Прямоугольный треугольник 16"/>
          <p:cNvGrpSpPr/>
          <p:nvPr/>
        </p:nvGrpSpPr>
        <p:grpSpPr>
          <a:xfrm>
            <a:off x="-12600" y="5784840"/>
            <a:ext cx="3414600" cy="1092240"/>
            <a:chOff x="-12600" y="5784840"/>
            <a:chExt cx="3414600" cy="1092240"/>
          </a:xfrm>
        </p:grpSpPr>
        <p:pic>
          <p:nvPicPr>
            <p:cNvPr id="324" name="Прямоугольный треугольник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Прямая соединительная линия 18" descr=""/>
          <p:cNvPicPr/>
          <p:nvPr/>
        </p:nvPicPr>
        <p:blipFill>
          <a:blip r:embed="rId4"/>
          <a:stretch/>
        </p:blipFill>
        <p:spPr>
          <a:xfrm>
            <a:off x="-19080" y="5772240"/>
            <a:ext cx="3421080" cy="1109520"/>
          </a:xfrm>
          <a:prstGeom prst="rect">
            <a:avLst/>
          </a:prstGeom>
          <a:ln w="0">
            <a:noFill/>
          </a:ln>
        </p:spPr>
      </p:pic>
      <p:sp>
        <p:nvSpPr>
          <p:cNvPr id="327" name="Нашивка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Нашивка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A14C-5410-4C9E-BC7D-69DB97D016A9}" type="slidenum">
              <a:rPr b="0" lang="ru-RU"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Заголовок 1" descr=""/>
          <p:cNvPicPr/>
          <p:nvPr/>
        </p:nvPicPr>
        <p:blipFill>
          <a:blip r:embed="rId1"/>
          <a:stretch/>
        </p:blipFill>
        <p:spPr>
          <a:xfrm>
            <a:off x="244440" y="1122480"/>
            <a:ext cx="8594640" cy="181584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Lucida Sans Unicode"/>
              </a:rPr>
              <a:t>По историю искусств</a:t>
            </a:r>
            <a:endParaRPr b="0" lang="en-US" sz="2700" spc="-1" strike="noStrike">
              <a:solidFill>
                <a:srgbClr val="000000"/>
              </a:solidFill>
              <a:latin typeface="Lucida Sans Unico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
          <p:cNvSpPr/>
          <p:nvPr/>
        </p:nvSpPr>
        <p:spPr>
          <a:xfrm flipV="1" rot="10800000">
            <a:off x="324000" y="346680"/>
            <a:ext cx="8099280" cy="34480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22"/>
                </a:solidFill>
                <a:latin typeface="Arial"/>
                <a:ea typeface="Arial"/>
              </a:rPr>
              <a:t>В одних пещерах — зола, кости, каменные орудия </a:t>
            </a:r>
            <a:r>
              <a:rPr b="1" lang="ru-RU" sz="2000" spc="-1" strike="noStrike">
                <a:solidFill>
                  <a:srgbClr val="222222"/>
                </a:solidFill>
                <a:latin typeface="Arial"/>
                <a:ea typeface="Arial"/>
              </a:rPr>
              <a:t>(т. е. то, что мы называем </a:t>
            </a:r>
            <a:r>
              <a:rPr b="1" i="1" lang="ru-RU" sz="2000" spc="-1" strike="noStrike">
                <a:solidFill>
                  <a:srgbClr val="222222"/>
                </a:solidFill>
                <a:latin typeface="Arial"/>
                <a:ea typeface="Arial"/>
              </a:rPr>
              <a:t>культурным слоем</a:t>
            </a:r>
            <a:r>
              <a:rPr b="1" lang="ru-RU" sz="2000" spc="-1" strike="noStrike">
                <a:solidFill>
                  <a:srgbClr val="222222"/>
                </a:solidFill>
                <a:latin typeface="Arial"/>
                <a:ea typeface="Arial"/>
              </a:rPr>
              <a:t>)</a:t>
            </a:r>
            <a:r>
              <a:rPr b="0" lang="ru-RU" sz="2000" spc="-1" strike="noStrike">
                <a:solidFill>
                  <a:srgbClr val="222222"/>
                </a:solidFill>
                <a:latin typeface="Arial"/>
                <a:ea typeface="Arial"/>
              </a:rPr>
              <a:t> закрывали полностью или частично настенные рисунки. Значит, сотни поколений древних людей уже могли видеть эти рисунки. Возраст культурного слоя этих пещер определяется теперь довольно точно: от 15 до 30 тыс. лет.</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22"/>
                </a:solidFill>
                <a:latin typeface="Arial"/>
                <a:ea typeface="Arial"/>
              </a:rPr>
              <a:t>Иногда рисунки датируют, определяя время завала, преграждавшего на десятки тысячелетий единственный вход в пещеру.</a:t>
            </a:r>
            <a:endParaRPr b="0" lang="en-US" sz="2000" spc="-1" strike="noStrike">
              <a:solidFill>
                <a:srgbClr val="000000"/>
              </a:solidFill>
              <a:latin typeface="Arial"/>
            </a:endParaRPr>
          </a:p>
        </p:txBody>
      </p:sp>
      <p:sp>
        <p:nvSpPr>
          <p:cNvPr id="391" name="Прямоугольник 2"/>
          <p:cNvSpPr/>
          <p:nvPr/>
        </p:nvSpPr>
        <p:spPr>
          <a:xfrm>
            <a:off x="0" y="3789360"/>
            <a:ext cx="9036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Lucida Sans Unicode"/>
              </a:rPr>
              <a:t>Не просто открывались пещерные сокровища. Знаменитый французский ученый </a:t>
            </a:r>
            <a:r>
              <a:rPr b="1" lang="ru-RU" sz="2000" spc="-1" strike="noStrike">
                <a:solidFill>
                  <a:srgbClr val="000000"/>
                </a:solidFill>
                <a:latin typeface="Lucida Sans Unicode"/>
              </a:rPr>
              <a:t>Нор-бер Кастер</a:t>
            </a:r>
            <a:r>
              <a:rPr b="0" lang="ru-RU" sz="2000" spc="-1" strike="noStrike">
                <a:solidFill>
                  <a:srgbClr val="000000"/>
                </a:solidFill>
                <a:latin typeface="Lucida Sans Unicode"/>
              </a:rPr>
              <a:t>, автор книги </a:t>
            </a:r>
            <a:r>
              <a:rPr b="1" lang="ru-RU" sz="2000" spc="-1" strike="noStrike">
                <a:solidFill>
                  <a:srgbClr val="000000"/>
                </a:solidFill>
                <a:latin typeface="Lucida Sans Unicode"/>
              </a:rPr>
              <a:t>«30 лет под землей»</a:t>
            </a:r>
            <a:r>
              <a:rPr b="0" lang="ru-RU" sz="2000" spc="-1" strike="noStrike">
                <a:solidFill>
                  <a:srgbClr val="000000"/>
                </a:solidFill>
                <a:latin typeface="Lucida Sans Unicode"/>
              </a:rPr>
              <a:t>, чтобы попасть в пещеру </a:t>
            </a:r>
            <a:r>
              <a:rPr b="1" lang="ru-RU" sz="2000" spc="-1" strike="noStrike">
                <a:solidFill>
                  <a:srgbClr val="000000"/>
                </a:solidFill>
                <a:latin typeface="Lucida Sans Unicode"/>
              </a:rPr>
              <a:t>Монтеспан</a:t>
            </a:r>
            <a:r>
              <a:rPr b="0" lang="ru-RU" sz="2000" spc="-1" strike="noStrike">
                <a:solidFill>
                  <a:srgbClr val="000000"/>
                </a:solidFill>
                <a:latin typeface="Lucida Sans Unicode"/>
              </a:rPr>
              <a:t>, богатую рисунками и скульптурами первобытных людей, должен был нырнуть в подземное озеро. Другой прославленный изыскатель — </a:t>
            </a:r>
            <a:r>
              <a:rPr b="1" lang="ru-RU" sz="2000" spc="-1" strike="noStrike">
                <a:solidFill>
                  <a:srgbClr val="000000"/>
                </a:solidFill>
                <a:latin typeface="Lucida Sans Unicode"/>
              </a:rPr>
              <a:t>Бегуэн</a:t>
            </a:r>
            <a:r>
              <a:rPr b="0" lang="ru-RU" sz="2000" spc="-1" strike="noStrike">
                <a:solidFill>
                  <a:srgbClr val="000000"/>
                </a:solidFill>
                <a:latin typeface="Lucida Sans Unicode"/>
              </a:rPr>
              <a:t> полз десятки метров вместе с тремя сыновьями по необычайно узким тоннелям, прежде чем оказался в громадном подземном дворце, украшенном множеством первобытных рисунков. Дворец получил название </a:t>
            </a:r>
            <a:r>
              <a:rPr b="1" lang="ru-RU" sz="2000" spc="-1" strike="noStrike">
                <a:solidFill>
                  <a:srgbClr val="000000"/>
                </a:solidFill>
                <a:latin typeface="Lucida Sans Unicode"/>
              </a:rPr>
              <a:t>«Пещеры трех братьев»</a:t>
            </a:r>
            <a:r>
              <a:rPr b="0" lang="ru-RU" sz="2000" spc="-1" strike="noStrike">
                <a:solidFill>
                  <a:srgbClr val="000000"/>
                </a:solidFill>
                <a:latin typeface="Lucida Sans Unicode"/>
              </a:rPr>
              <a:t>. Здесь </a:t>
            </a:r>
            <a:r>
              <a:rPr b="1" lang="ru-RU" sz="2000" spc="-1" strike="noStrike">
                <a:solidFill>
                  <a:srgbClr val="000000"/>
                </a:solidFill>
                <a:latin typeface="Lucida Sans Unicode"/>
              </a:rPr>
              <a:t>Бегуэн</a:t>
            </a:r>
            <a:r>
              <a:rPr b="0" lang="ru-RU" sz="2000" spc="-1" strike="noStrike">
                <a:solidFill>
                  <a:srgbClr val="000000"/>
                </a:solidFill>
                <a:latin typeface="Lucida Sans Unicode"/>
              </a:rPr>
              <a:t> нашел ступку для растирания краски и другие вещи древнего художника, жившего много тысяч лет назад.</a:t>
            </a:r>
            <a:endParaRPr b="0" lang="en-US" sz="20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
          <p:cNvSpPr/>
          <p:nvPr/>
        </p:nvSpPr>
        <p:spPr>
          <a:xfrm>
            <a:off x="179280" y="494280"/>
            <a:ext cx="8496360" cy="4057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22"/>
                </a:solidFill>
                <a:latin typeface="Arial"/>
                <a:ea typeface="Arial"/>
              </a:rPr>
              <a:t>Еще одно доказательство неподдельности пещерной живописи: одни рисунки безжалостно нарисованы на других. Одни — старше, другие — моложе, может быть, на год, или век, или несколько тысячелетий... При этом предки и потомки стихийно создавали неожиданные, прекрасные, смелые композиции, хотя каждый из них рисовал только своего звер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2222"/>
                </a:solidFill>
                <a:latin typeface="Arial"/>
                <a:ea typeface="Arial"/>
              </a:rPr>
              <a:t>Специалисты полагают, что художники, прежде чем рисовать, возможно, размазывали краску на стене — старые фигурки исчезали, и по краске вырисовывался новый контур. Спустя тысячелетия краски полностью или частично coшли — и мы видим несколько слоев живописи.</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Прямоугольник 1"/>
          <p:cNvSpPr/>
          <p:nvPr/>
        </p:nvSpPr>
        <p:spPr>
          <a:xfrm>
            <a:off x="1258920" y="260280"/>
            <a:ext cx="774072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Древнейшие сохранившиеся художественные произведения были созданы же в первобытную эпоху, примерно шестьдесят тысяч лет тому назад. В то время люди ещё не знали металла и орудия труда изготовляли из камня; отсюда и название эпохи - каменный век. Люди каменного века придавали художественный облик предметам повседневного обихода - каменным орудиям и сосудам из глины, хотя в этом не было практической необходимости. Зачем они так поступали? На этот счёт мы можем строить лишь предположения. </a:t>
            </a:r>
            <a:br>
              <a:rPr sz="1800"/>
            </a:br>
            <a:br>
              <a:rPr sz="1800"/>
            </a:br>
            <a:r>
              <a:rPr b="0" lang="ru-RU" sz="1800" spc="-1" strike="noStrike">
                <a:solidFill>
                  <a:srgbClr val="000000"/>
                </a:solidFill>
                <a:latin typeface="Lucida Sans Unicode"/>
              </a:rPr>
              <a:t>Одной из причин возникновения искусства считают человеческую потребность в красоте и радости творчества, другой - верования того времени. С поверьями связывают прекрасные памятники каменного века - написанные красками, а также выгравированные на камне изображения, которыми покрывали стены и потолки подземных пещер - пещерные росписи. Люди того времени верили в магию: они считали что с помощью картин и других изображений можно воздействовать на природу. Считалось, например, что нужно поразить стрелой или копьём нарисованного зверя, чтобы обеспечить успех настоящей охоты. </a:t>
            </a:r>
            <a:endParaRPr b="0" lang="en-US" sz="1800" spc="-1" strike="noStrike">
              <a:solidFill>
                <a:srgbClr val="000000"/>
              </a:solidFill>
              <a:latin typeface="Arial"/>
            </a:endParaRPr>
          </a:p>
        </p:txBody>
      </p:sp>
      <p:pic>
        <p:nvPicPr>
          <p:cNvPr id="373" name="Picture 2" descr=""/>
          <p:cNvPicPr/>
          <p:nvPr/>
        </p:nvPicPr>
        <p:blipFill>
          <a:blip r:embed="rId1"/>
          <a:stretch/>
        </p:blipFill>
        <p:spPr>
          <a:xfrm>
            <a:off x="179280" y="404640"/>
            <a:ext cx="971640" cy="150516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Прямоугольник 1"/>
          <p:cNvSpPr/>
          <p:nvPr/>
        </p:nvSpPr>
        <p:spPr>
          <a:xfrm>
            <a:off x="0" y="0"/>
            <a:ext cx="91440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Точное время создания пещерных росписей до сих пор установить не удалось. Самые прекрасные из них были созданы, по мнению учёных, примерно двадцать - десять тысяч лет назад. В то время большую часть Европы покрывал толстый слой льда; пригодной для обитания оставалась лишь южная часть материка. Ледник медленно отступал, а вслед за ним двигались на север первобытные охотники. Можно предположить, что в тяжелейших условиях той поры все силы человека уходили на борьбу с голодом, холодом и хищными зверями. Тем не менее он создавал великолепные росписи. На стенах пещер изображены десятки крупных животных, на которых тогда уже умели охотиться; среди них встречались и такие, которые будут приручены человеком - быки, лошади, северные олени и другие. Пещерные росписи сохранили облик и таких зверей, которые позднее совсем вымерли: мамонты и пещерные медведи. </a:t>
            </a:r>
            <a:br>
              <a:rPr sz="1800"/>
            </a:br>
            <a:br>
              <a:rPr sz="1800"/>
            </a:br>
            <a:r>
              <a:rPr b="0" lang="ru-RU" sz="1800" spc="-1" strike="noStrike">
                <a:solidFill>
                  <a:srgbClr val="000000"/>
                </a:solidFill>
                <a:latin typeface="Lucida Sans Unicode"/>
              </a:rPr>
              <a:t>Первобытные художники очень хорошо знали животных, от которых зависело само существование людей. Лёгкой и гибкой линией передавали они позы и движения зверя. Красочные аккорды - чёрное, красное, белое, жёлтое - производят чарующее впечатление. Минеральные красители смешанные с водой, животным жиром и соком растений, сделали цвет пещерных росписей особенно ярким. Для создания таких больших и совершенных произведений тогда, как и сейчас, надо было учиться. Возможно, что камушки с нацарапанными на них изображениями зверей, найденные в пещерах, были ученическими работами "художественных школ" каменного века. </a:t>
            </a:r>
            <a:endParaRPr b="0" lang="en-US" sz="18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Прямоугольник 1"/>
          <p:cNvSpPr/>
          <p:nvPr/>
        </p:nvSpPr>
        <p:spPr>
          <a:xfrm>
            <a:off x="0" y="0"/>
            <a:ext cx="9144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Случилось так, что именно дети, причём совсем нечаянно, нашли самые интересные пещерные росписи в Европе. Они находятся в пещерах Альтамира в Испании и Ляско во Франции. До сих пор в Европе найдено около полутора сотен пещер с росписями; можно полагать, что их ещё больше, но не все пока обнаружены. Росписи пещеры Ласко были открыты только в 1940 году. Сходные памятники известны и за пределами Европы - в Азии, в Северной Африке. </a:t>
            </a:r>
            <a:br>
              <a:rPr sz="1800"/>
            </a:br>
            <a:br>
              <a:rPr sz="1800"/>
            </a:br>
            <a:r>
              <a:rPr b="0" lang="ru-RU" sz="1800" spc="-1" strike="noStrike">
                <a:solidFill>
                  <a:srgbClr val="000000"/>
                </a:solidFill>
                <a:latin typeface="Lucida Sans Unicode"/>
              </a:rPr>
              <a:t>Поразительно и огромное количество этих росписей, и их высокая художественность. Вначале многие специалисты сомневались в подлинности пещерных картин: казалось, что первобытные люди не могли быть столь искусны в живописи, а удивительная сохранность росписей наводила на мысль о подделке. </a:t>
            </a:r>
            <a:endParaRPr b="0" lang="en-US" sz="1800" spc="-1" strike="noStrike">
              <a:solidFill>
                <a:srgbClr val="000000"/>
              </a:solidFill>
              <a:latin typeface="Arial"/>
            </a:endParaRPr>
          </a:p>
        </p:txBody>
      </p:sp>
      <p:sp>
        <p:nvSpPr>
          <p:cNvPr id="376" name="Прямоугольник 2"/>
          <p:cNvSpPr/>
          <p:nvPr/>
        </p:nvSpPr>
        <p:spPr>
          <a:xfrm>
            <a:off x="0" y="299736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Наряду с пещерными росписями и рисунками в ту пору изготовляли разнообразные изваяния из кости и камня. Их делали с помощью примитивных инструментов, и эта работа требовала исключительного терпения. Создание изваяний, без сомнения, тоже было связано с первобытными верованиями. </a:t>
            </a:r>
            <a:endParaRPr b="0" lang="en-US" sz="1800" spc="-1" strike="noStrike">
              <a:solidFill>
                <a:srgbClr val="000000"/>
              </a:solidFill>
              <a:latin typeface="Arial"/>
            </a:endParaRPr>
          </a:p>
        </p:txBody>
      </p:sp>
      <p:sp>
        <p:nvSpPr>
          <p:cNvPr id="377" name="Прямоугольник 3"/>
          <p:cNvSpPr/>
          <p:nvPr/>
        </p:nvSpPr>
        <p:spPr>
          <a:xfrm>
            <a:off x="0" y="4076640"/>
            <a:ext cx="9144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За каменным веком следовал бронзовый (он получил своё название от широко распространённого тогда сплава металлов - бронзы). Эпоха бронзы началась в Западной Европе сравнительно поздно, около четырёх тысяч лет назад. Бронзу было гораздо легче обрабатывать, нежели камень, её можно было отливать в формы и шлифовать. Поэтому в бронзовом веке изготовляли всякого рода предметы обихода, богато украшенные орнаментом и обладающие высокой художественной ценностью. Орнаментальные украшения состояли большей частью из кругов, спиралей, волнистых линий и тому подобных мотивов. Особое внимание уделяли украшениям - они были крупного размера и сразу бросались в глаза. </a:t>
            </a:r>
            <a:endParaRPr b="0" lang="en-US" sz="1800" spc="-1" strike="noStrike">
              <a:solidFill>
                <a:srgbClr val="000000"/>
              </a:solidFill>
              <a:latin typeface="Arial"/>
            </a:endParaRPr>
          </a:p>
        </p:txBody>
      </p:sp>
    </p:spTree>
  </p:cSld>
  <p:transition>
    <p:cut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Прямоугольник 1"/>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К эпохе бронзы относятся и своеобразные, огромного размера сооружения, обязанные своим появлением также первобытным верованиям. На полуострове Бретань во Франции на целые километры растянулись поля т.н. менгиров. На языке кельтов, позднейщих обитателей полуострова, название этих каменных столбов высотою в несколько метров означает "длинный камень". Такие группы носят название кромлехов. Сохранились и иного рода сооружения - дольмены, первоначально служившие для погребений: стены из огромных каменных плит перекрывались крышей из такого же монолитного каменного блока. Многочисленные менгиры и дольмены располагались в местах, которые почитались священными. Особенно знамениты развалины такого святилища в Англии - Стонхендж. Предполагается, что там поклонялись солнцу.</a:t>
            </a:r>
            <a:endParaRPr b="0" lang="en-US" sz="1800" spc="-1" strike="noStrike">
              <a:solidFill>
                <a:srgbClr val="000000"/>
              </a:solidFill>
              <a:latin typeface="Arial"/>
            </a:endParaRPr>
          </a:p>
        </p:txBody>
      </p:sp>
      <p:pic>
        <p:nvPicPr>
          <p:cNvPr id="379" name="Picture 2" descr=""/>
          <p:cNvPicPr/>
          <p:nvPr/>
        </p:nvPicPr>
        <p:blipFill>
          <a:blip r:embed="rId1"/>
          <a:stretch/>
        </p:blipFill>
        <p:spPr>
          <a:xfrm>
            <a:off x="1835280" y="3357720"/>
            <a:ext cx="4755960" cy="2950920"/>
          </a:xfrm>
          <a:prstGeom prst="rect">
            <a:avLst/>
          </a:prstGeom>
          <a:ln w="0">
            <a:noFill/>
          </a:ln>
        </p:spPr>
      </p:pic>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Прямоугольник 1"/>
          <p:cNvSpPr/>
          <p:nvPr/>
        </p:nvSpPr>
        <p:spPr>
          <a:xfrm>
            <a:off x="395280" y="333360"/>
            <a:ext cx="770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Lucida Sans Unicode"/>
              </a:rPr>
              <a:t>Первобытное</a:t>
            </a:r>
            <a:r>
              <a:rPr b="1" lang="ru-RU" sz="1800" spc="-1" strike="noStrike">
                <a:solidFill>
                  <a:srgbClr val="000000"/>
                </a:solidFill>
                <a:latin typeface="Lucida Sans Unicode"/>
              </a:rPr>
              <a:t>  </a:t>
            </a:r>
            <a:r>
              <a:rPr b="1" lang="ru-RU" sz="3600" spc="-1" strike="noStrike">
                <a:solidFill>
                  <a:srgbClr val="000000"/>
                </a:solidFill>
                <a:latin typeface="Lucida Sans Unicode"/>
              </a:rPr>
              <a:t>искусство</a:t>
            </a:r>
            <a:r>
              <a:rPr b="1" lang="ru-RU" sz="1800" spc="-1" strike="noStrike">
                <a:solidFill>
                  <a:srgbClr val="000000"/>
                </a:solidFill>
                <a:latin typeface="Lucida Sans Unicode"/>
              </a:rPr>
              <a:t> </a:t>
            </a:r>
            <a:endParaRPr b="0" lang="en-US" sz="1800" spc="-1" strike="noStrike">
              <a:solidFill>
                <a:srgbClr val="000000"/>
              </a:solidFill>
              <a:latin typeface="Arial"/>
            </a:endParaRPr>
          </a:p>
        </p:txBody>
      </p:sp>
      <p:pic>
        <p:nvPicPr>
          <p:cNvPr id="381" name="Picture 2" descr=""/>
          <p:cNvPicPr/>
          <p:nvPr/>
        </p:nvPicPr>
        <p:blipFill>
          <a:blip r:embed="rId1"/>
          <a:stretch/>
        </p:blipFill>
        <p:spPr>
          <a:xfrm>
            <a:off x="1763640" y="1341360"/>
            <a:ext cx="4953240" cy="3305160"/>
          </a:xfrm>
          <a:prstGeom prst="rect">
            <a:avLst/>
          </a:prstGeom>
          <a:ln w="0">
            <a:noFill/>
          </a:ln>
        </p:spPr>
      </p:pic>
      <p:sp>
        <p:nvSpPr>
          <p:cNvPr id="382" name="Прямоугольник 3"/>
          <p:cNvSpPr/>
          <p:nvPr/>
        </p:nvSpPr>
        <p:spPr>
          <a:xfrm>
            <a:off x="1116000" y="5300640"/>
            <a:ext cx="56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Lucida Sans Unicode"/>
              </a:rPr>
              <a:t>Бизон. XV в. до н. э. Пещера Альтамир. Исп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Прямоугольник 1"/>
          <p:cNvSpPr/>
          <p:nvPr/>
        </p:nvSpPr>
        <p:spPr>
          <a:xfrm>
            <a:off x="0" y="0"/>
            <a:ext cx="9144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В 1876 г. люди открыли одну из самых первых страниц истории искусства — </a:t>
            </a:r>
            <a:r>
              <a:rPr b="1" lang="ru-RU" sz="1800" spc="-1" strike="noStrike">
                <a:solidFill>
                  <a:srgbClr val="000000"/>
                </a:solidFill>
                <a:latin typeface="Lucida Sans Unicode"/>
              </a:rPr>
              <a:t>пещерную живопись</a:t>
            </a:r>
            <a:r>
              <a:rPr b="0" lang="ru-RU" sz="1800" spc="-1" strike="noStrike">
                <a:solidFill>
                  <a:srgbClr val="000000"/>
                </a:solidFill>
                <a:latin typeface="Lucida Sans Unicode"/>
              </a:rPr>
              <a:t> первобытных людей, которую обнаружил испанец </a:t>
            </a:r>
            <a:r>
              <a:rPr b="1" lang="ru-RU" sz="1800" spc="-1" strike="noStrike">
                <a:solidFill>
                  <a:srgbClr val="000000"/>
                </a:solidFill>
                <a:latin typeface="Lucida Sans Unicode"/>
              </a:rPr>
              <a:t>Саутуола</a:t>
            </a:r>
            <a:r>
              <a:rPr b="0" lang="ru-RU" sz="1800" spc="-1" strike="noStrike">
                <a:solidFill>
                  <a:srgbClr val="000000"/>
                </a:solidFill>
                <a:latin typeface="Lucida Sans Unicode"/>
              </a:rPr>
              <a:t>. Это открытие не вызвало большого доверия. Все только удивлялись — неужели для обмана и мистификации нельзя было придумать что-нибудь более остроумное, нежели расписывать сотнями многоцветных изображений стены и потолок громадной испанской пещеры </a:t>
            </a:r>
            <a:r>
              <a:rPr b="1" lang="ru-RU" sz="1800" spc="-1" strike="noStrike">
                <a:solidFill>
                  <a:srgbClr val="000000"/>
                </a:solidFill>
                <a:latin typeface="Lucida Sans Unicode"/>
              </a:rPr>
              <a:t>Альтамиры</a:t>
            </a:r>
            <a:r>
              <a:rPr b="0" lang="ru-RU" sz="1800" spc="-1" strike="noStrike">
                <a:solidFill>
                  <a:srgbClr val="000000"/>
                </a:solidFill>
                <a:latin typeface="Lucida Sans Unicode"/>
              </a:rPr>
              <a:t>. Но в 1895 г. француз</a:t>
            </a:r>
            <a:r>
              <a:rPr b="1" lang="ru-RU" sz="1800" spc="-1" strike="noStrike">
                <a:solidFill>
                  <a:srgbClr val="000000"/>
                </a:solidFill>
                <a:latin typeface="Lucida Sans Unicode"/>
              </a:rPr>
              <a:t>Ривьер</a:t>
            </a:r>
            <a:r>
              <a:rPr b="0" lang="ru-RU" sz="1800" spc="-1" strike="noStrike">
                <a:solidFill>
                  <a:srgbClr val="000000"/>
                </a:solidFill>
                <a:latin typeface="Lucida Sans Unicode"/>
              </a:rPr>
              <a:t> открывает вторую пещеру с рисунками </a:t>
            </a:r>
            <a:r>
              <a:rPr b="1" lang="ru-RU" sz="1800" spc="-1" strike="noStrike">
                <a:solidFill>
                  <a:srgbClr val="000000"/>
                </a:solidFill>
                <a:latin typeface="Lucida Sans Unicode"/>
              </a:rPr>
              <a:t>(JIа Мут, Франция)</a:t>
            </a:r>
            <a:r>
              <a:rPr b="0" lang="ru-RU" sz="1800" spc="-1" strike="noStrike">
                <a:solidFill>
                  <a:srgbClr val="000000"/>
                </a:solidFill>
                <a:latin typeface="Lucida Sans Unicode"/>
              </a:rPr>
              <a:t>, чем заставляет поверить в первую. К началу нового столетия от неверия в живопись первобытных людей почти не осталось и следа: появились первые пещерные музеи. Только что открытое искусство сразу стало широко популярным.К 1914 г. в Испании обнаружили уже 20 больших пещер с рисунками на стенах и столько же во Франции. Начали появляться и подделки</a:t>
            </a:r>
            <a:endParaRPr b="0" lang="en-US" sz="1800" spc="-1" strike="noStrike">
              <a:solidFill>
                <a:srgbClr val="000000"/>
              </a:solidFill>
              <a:latin typeface="Arial"/>
            </a:endParaRPr>
          </a:p>
        </p:txBody>
      </p:sp>
      <p:sp>
        <p:nvSpPr>
          <p:cNvPr id="384" name="Прямоугольник 2"/>
          <p:cNvSpPr/>
          <p:nvPr/>
        </p:nvSpPr>
        <p:spPr>
          <a:xfrm>
            <a:off x="0" y="371628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Быки шествуют по стенам десятков приледниковых пещер Франции и Испании, а рядом с ними — олени, бизоны, козлы, мамонты... Громадный </a:t>
            </a:r>
            <a:r>
              <a:rPr b="1" lang="ru-RU" sz="1800" spc="-1" strike="noStrike">
                <a:solidFill>
                  <a:srgbClr val="000000"/>
                </a:solidFill>
                <a:latin typeface="Lucida Sans Unicode"/>
              </a:rPr>
              <a:t>«Зал быков»</a:t>
            </a:r>
            <a:r>
              <a:rPr b="0" lang="ru-RU" sz="1800" spc="-1" strike="noStrike">
                <a:solidFill>
                  <a:srgbClr val="000000"/>
                </a:solidFill>
                <a:latin typeface="Lucida Sans Unicode"/>
              </a:rPr>
              <a:t> — в пещере </a:t>
            </a:r>
            <a:r>
              <a:rPr b="1" lang="ru-RU" sz="1800" spc="-1" strike="noStrike">
                <a:solidFill>
                  <a:srgbClr val="000000"/>
                </a:solidFill>
                <a:latin typeface="Lucida Sans Unicode"/>
              </a:rPr>
              <a:t>Ляско</a:t>
            </a:r>
            <a:r>
              <a:rPr b="0" lang="ru-RU" sz="1800" spc="-1" strike="noStrike">
                <a:solidFill>
                  <a:srgbClr val="000000"/>
                </a:solidFill>
                <a:latin typeface="Lucida Sans Unicode"/>
              </a:rPr>
              <a:t> (Франция). Темные быки будто парят над стадом диких лошадок, а между крупными животными несколько чудесных маленьких желтовато-красных оленей.</a:t>
            </a:r>
            <a:endParaRPr b="0" lang="en-US" sz="18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971640" y="836640"/>
            <a:ext cx="5960880" cy="3106800"/>
          </a:xfrm>
          <a:prstGeom prst="rect">
            <a:avLst/>
          </a:prstGeom>
          <a:ln w="0">
            <a:noFill/>
          </a:ln>
        </p:spPr>
      </p:pic>
      <p:sp>
        <p:nvSpPr>
          <p:cNvPr id="386" name="Прямоугольник 2"/>
          <p:cNvSpPr/>
          <p:nvPr/>
        </p:nvSpPr>
        <p:spPr>
          <a:xfrm>
            <a:off x="2050920" y="4149720"/>
            <a:ext cx="525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Lucida Sans Unicode"/>
              </a:rPr>
              <a:t>«Зал быков». Пещера Ляско. Франция.</a:t>
            </a:r>
            <a:endParaRPr b="0" lang="en-US" sz="18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Прямоугольник 1"/>
          <p:cNvSpPr/>
          <p:nvPr/>
        </p:nvSpPr>
        <p:spPr>
          <a:xfrm>
            <a:off x="0" y="0"/>
            <a:ext cx="9036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Lucida Sans Unicode"/>
              </a:rPr>
              <a:t>Мрачный, полный достоинства козел из пещеры </a:t>
            </a:r>
            <a:r>
              <a:rPr b="1" lang="ru-RU" sz="1800" spc="-1" strike="noStrike">
                <a:solidFill>
                  <a:srgbClr val="000000"/>
                </a:solidFill>
                <a:latin typeface="Lucida Sans Unicode"/>
              </a:rPr>
              <a:t>Кастильо</a:t>
            </a:r>
            <a:r>
              <a:rPr b="0" lang="ru-RU" sz="1800" spc="-1" strike="noStrike">
                <a:solidFill>
                  <a:srgbClr val="000000"/>
                </a:solidFill>
                <a:latin typeface="Lucida Sans Unicode"/>
              </a:rPr>
              <a:t> </a:t>
            </a:r>
            <a:r>
              <a:rPr b="1" lang="ru-RU" sz="1800" spc="-1" strike="noStrike">
                <a:solidFill>
                  <a:srgbClr val="000000"/>
                </a:solidFill>
                <a:latin typeface="Lucida Sans Unicode"/>
              </a:rPr>
              <a:t>(Испания)</a:t>
            </a:r>
            <a:r>
              <a:rPr b="0" lang="ru-RU" sz="1800" spc="-1" strike="noStrike">
                <a:solidFill>
                  <a:srgbClr val="000000"/>
                </a:solidFill>
                <a:latin typeface="Lucida Sans Unicode"/>
              </a:rPr>
              <a:t> — весь в движении. Детали нарисованы так, будто художник знал, что если дорисует — хуже будет, тяжелее. Нежная, трогательная лань из </a:t>
            </a:r>
            <a:r>
              <a:rPr b="1" lang="ru-RU" sz="1800" spc="-1" strike="noStrike">
                <a:solidFill>
                  <a:srgbClr val="000000"/>
                </a:solidFill>
                <a:latin typeface="Lucida Sans Unicode"/>
              </a:rPr>
              <a:t>Альтамиры</a:t>
            </a:r>
            <a:r>
              <a:rPr b="0" lang="ru-RU" sz="1800" spc="-1" strike="noStrike">
                <a:solidFill>
                  <a:srgbClr val="000000"/>
                </a:solidFill>
                <a:latin typeface="Lucida Sans Unicode"/>
              </a:rPr>
              <a:t>. </a:t>
            </a:r>
            <a:r>
              <a:rPr b="1" lang="ru-RU" sz="1800" spc="-1" strike="noStrike">
                <a:solidFill>
                  <a:srgbClr val="000000"/>
                </a:solidFill>
                <a:latin typeface="Lucida Sans Unicode"/>
              </a:rPr>
              <a:t>Мамонт из Фон-де-Гом</a:t>
            </a:r>
            <a:r>
              <a:rPr b="0" lang="ru-RU" sz="1800" spc="-1" strike="noStrike">
                <a:solidFill>
                  <a:srgbClr val="000000"/>
                </a:solidFill>
                <a:latin typeface="Lucida Sans Unicode"/>
              </a:rPr>
              <a:t>... По рисунку ученые восстановили неизвестные детали строения хобота </a:t>
            </a:r>
            <a:r>
              <a:rPr b="1" lang="ru-RU" sz="1800" spc="-1" strike="noStrike">
                <a:solidFill>
                  <a:srgbClr val="000000"/>
                </a:solidFill>
                <a:latin typeface="Lucida Sans Unicode"/>
              </a:rPr>
              <a:t>(потом на севере нашли целую сохранившуюся тушу мамонта, и детали подтвердились)</a:t>
            </a:r>
            <a:r>
              <a:rPr b="0" lang="ru-RU" sz="1800" spc="-1" strike="noStrike">
                <a:solidFill>
                  <a:srgbClr val="000000"/>
                </a:solidFill>
                <a:latin typeface="Lucida Sans Unicode"/>
              </a:rPr>
              <a:t>. Древность всех этих произведений доказана несколькими способами.</a:t>
            </a:r>
            <a:endParaRPr b="0" lang="en-US" sz="1800" spc="-1" strike="noStrike">
              <a:solidFill>
                <a:srgbClr val="000000"/>
              </a:solidFill>
              <a:latin typeface="Arial"/>
            </a:endParaRPr>
          </a:p>
        </p:txBody>
      </p:sp>
      <p:pic>
        <p:nvPicPr>
          <p:cNvPr id="388" name="Picture 2" descr=""/>
          <p:cNvPicPr/>
          <p:nvPr/>
        </p:nvPicPr>
        <p:blipFill>
          <a:blip r:embed="rId1"/>
          <a:stretch/>
        </p:blipFill>
        <p:spPr>
          <a:xfrm>
            <a:off x="1835280" y="1773360"/>
            <a:ext cx="4829040" cy="3333600"/>
          </a:xfrm>
          <a:prstGeom prst="rect">
            <a:avLst/>
          </a:prstGeom>
          <a:ln w="0">
            <a:noFill/>
          </a:ln>
        </p:spPr>
      </p:pic>
      <p:sp>
        <p:nvSpPr>
          <p:cNvPr id="389" name="Прямоугольник 3"/>
          <p:cNvSpPr/>
          <p:nvPr/>
        </p:nvSpPr>
        <p:spPr>
          <a:xfrm>
            <a:off x="2627280" y="5300640"/>
            <a:ext cx="501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Lucida Sans Unicode"/>
              </a:rPr>
              <a:t>Мамонт. Пещера Фон-де-Гом. Франция</a:t>
            </a:r>
            <a:endParaRPr b="0" lang="en-US" sz="18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07:49:42Z</dcterms:created>
  <dc:creator>User</dc:creator>
  <dc:description/>
  <dc:language>en-US</dc:language>
  <cp:lastModifiedBy>User</cp:lastModifiedBy>
  <dcterms:modified xsi:type="dcterms:W3CDTF">2012-02-29T07:26:10Z</dcterms:modified>
  <cp:revision>8</cp:revision>
  <dc:subject/>
  <dc:title>Слайд 1</dc:title>
</cp:coreProperties>
</file>