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99A-1E39-4BAD-B82D-8FA3E736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9F-C180-41AC-89DE-8F8A6E7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515-C644-4046-93E8-1B8A1986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B98-BC97-4A08-9947-A90B7361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515F-DEF8-4932-8998-B7FF8AC4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44D7-0D39-47DD-89C7-08F0C36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9AC-0DA2-4DA6-A610-814F4EB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8E9-540E-40F8-A3A7-A34D4A5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283A-74F6-42CB-9D59-79FD756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51BB-4406-4134-A3D0-AF873D3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2765-3072-46B7-92A2-468FAA0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44B-2377-4F83-A150-C169D649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EE07-48A3-48E1-AC9D-647FCA9A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8E54-CDD6-4A1A-BCE7-8F7AB0A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BDD-085A-447D-8690-EFEEA19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9EB-859C-4A09-9C93-14206535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C0A9-F63D-492A-A0BF-CB29C03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B29-87C6-4055-BDB3-8688A152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022-D441-40DD-8E48-62FE3B5B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D92-9A57-4132-AF1D-12BB341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5D5-B9A9-4301-8392-252ECE9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6F6-D46C-4E73-976D-EC80DD1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DAD-E139-408F-B382-C8E48A4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C76-6637-4445-8E97-73E6E0E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99A-135B-4FA7-9925-C43429D3EBE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65760" y="-47880"/>
            <a:ext cx="1253520" cy="1602000"/>
            <a:chOff x="365760" y="-47880"/>
            <a:chExt cx="1253520" cy="1602000"/>
          </a:xfrm>
        </p:grpSpPr>
        <p:sp>
          <p:nvSpPr>
            <p:cNvPr id="6" name=""/>
            <p:cNvSpPr/>
            <p:nvPr/>
          </p:nvSpPr>
          <p:spPr>
            <a:xfrm>
              <a:off x="466560" y="547560"/>
              <a:ext cx="1152720" cy="79236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938000">
              <a:off x="466560" y="115560"/>
              <a:ext cx="8636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5640" y="9064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D96-F30B-42BD-8893-8A75C28A97F5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3333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3333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3333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16200000">
            <a:off x="1296000" y="-207000"/>
            <a:ext cx="6624720" cy="784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45117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Элементы конструирования и дизайн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16200000">
            <a:off x="1889640" y="133920"/>
            <a:ext cx="6120000" cy="666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323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Успехов в творческом поиск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875040" y="2205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346716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Создать макет простой геометрической фигуры (материал исполнения любой)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356000" y="1773360"/>
            <a:ext cx="4249800" cy="42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58920" y="2205000"/>
            <a:ext cx="684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формировать знания о элементах технического конструирования и дизайна.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развивать пространственное мышление и память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воспитание стремления добросовестно и рационально выполнять учебные задания, развитие познавательного интереса и логического мышления.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08360" y="549360"/>
            <a:ext cx="46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Цели и зада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Оценочный лист обучающего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0920" y="1916280"/>
            <a:ext cx="8424720" cy="36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42591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Графический язык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-пиктограммы-топографическое письмо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Клинопись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-перо по глине-первый алфавит-15 в до н.э.-фонетическое письмо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Рождение графического языка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 было продиктовано настоятельной необходимостью точной передаче формы и геометрических свойств трехмерных объектов. Это качество графического языка отличает его от других языков, выбранного человечеством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Искусство графического письм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cherch0018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3740040" cy="43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519720" cy="442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4248000" cy="42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0" r="1465" b="0"/>
          <a:stretch/>
        </p:blipFill>
        <p:spPr>
          <a:xfrm>
            <a:off x="684360" y="2492280"/>
            <a:ext cx="7920000" cy="3300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866304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2444760"/>
            <a:ext cx="410544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14920" y="2371680"/>
            <a:ext cx="4105080" cy="30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roekcija-predmeta_0" descr="proekcija-predmeta_0.png"/>
          <p:cNvPicPr/>
          <p:nvPr/>
        </p:nvPicPr>
        <p:blipFill>
          <a:blip r:embed="rId2"/>
          <a:stretch/>
        </p:blipFill>
        <p:spPr>
          <a:xfrm>
            <a:off x="395280" y="1773360"/>
            <a:ext cx="8497800" cy="406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476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и проекции пред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ядя на предмет спереди, сверху и сб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9500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и проекции предмета:глядя на предмет спереди, сверху и сбо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754280"/>
            <a:ext cx="4105440" cy="43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4920" y="1716120"/>
            <a:ext cx="4249800" cy="42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39:16Z</dcterms:created>
  <dc:creator>Koger_NV</dc:creator>
  <dc:description/>
  <dc:language>en-US</dc:language>
  <cp:lastModifiedBy>Koger_NV</cp:lastModifiedBy>
  <dcterms:modified xsi:type="dcterms:W3CDTF">2012-02-09T08:09:53Z</dcterms:modified>
  <cp:revision>5</cp:revision>
  <dc:subject/>
  <dc:title>Слайд 1</dc:title>
</cp:coreProperties>
</file>