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A54-D19F-4C84-80DC-8F840370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5F2-4538-4022-9977-68D6999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5E8-5369-4D2D-846B-B69B1615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C09-B013-43E5-A5A8-4AFCB344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99F-9B7A-42A1-9FEB-6500618F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3DB-5713-4392-8A58-E9AE445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69D9-A4D9-4921-AD84-861785C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D1EA-371F-4FC4-A4CB-33285E9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8DF9-0B56-4332-BF71-A083A7A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F60-9BE7-4284-A181-368E328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1329-787E-43EE-9F06-AD0EF1E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BDD-E98E-4562-8A7B-E6A0975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24A-230A-44D0-92A5-D95FB0D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77DD-3E10-408D-971B-7006F98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BFBD-A71F-4AB0-9659-964066C3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C9F4-D503-48D7-8508-1BEC96DC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C1C-AF45-4034-98BC-4B6BBE75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791-4FA7-4932-97AD-19B1069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5A7-A189-44BE-AFF7-BC8DDA8B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918-C03E-40A0-BB6D-AEA86B0A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06F-432F-4C12-9D85-B2FD1E66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3B8-50F1-44C7-893B-C9613AF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B0F-1246-467A-9FE0-5344454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D89-0E98-4940-8725-1F01160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684-1B3D-4226-B372-211F40DC4ED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0332-012E-48CC-9610-4BCECCC0FC4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68360" y="404640"/>
            <a:ext cx="6551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пера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2714760" y="2857680"/>
            <a:ext cx="54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арак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1285920" y="4714920"/>
            <a:ext cx="710244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н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0e5"/>
                </a:solidFill>
                <a:latin typeface="Arial"/>
              </a:rPr>
              <a:t>Понятие темперамен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76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емперамент – устойчивое объединение индивидуальных особенностей личности, связанных с динамическими, а не содержательными аспектами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емперамент – тип высшей нервной деятельности челове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, наверное, замечали , что одни люди «легки на подъём», а других надо как следует раскачать. Одни- оптимисты, а другие- пессимисты, одни- уравновешенные, а другие- неуёмные. Все это свидетельство свойств (особенностей) психики людей, а именно темперамента. Впервые описал темпераменты древнегреческий ученый врач Гиппократ. Он считал, что различие между людьми- это результат количественного соотношения жидкостей в организме. У любого человека, по его мнению, четыре типа жидкостей: два сорта желчи- черная и желтая; кровь и лимфа. Название темпераментам дал Гиппокр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емперамент- это природная конституция любого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елове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332000" y="0"/>
            <a:ext cx="64087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темперамент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179280" y="4437000"/>
            <a:ext cx="2195640" cy="1150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eae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Желтая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желч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олерики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энергич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уёмн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340000" y="4508640"/>
            <a:ext cx="2376360" cy="1150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2. Черная желч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еланхолик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уныл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ассив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4643280" y="4508640"/>
            <a:ext cx="2303640" cy="1150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d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3. Кров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сангвиники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благоразум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собран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активн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912000" y="443700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a462a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4. Лимфа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флегматик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вял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нетороплив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332000" y="0"/>
            <a:ext cx="619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О типах темперамен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826920" y="4005360"/>
            <a:ext cx="4392720" cy="2232000"/>
          </a:xfrm>
          <a:prstGeom prst="wedgeRoundRectCallout">
            <a:avLst>
              <a:gd name="adj1" fmla="val -29398"/>
              <a:gd name="adj2" fmla="val 72546"/>
              <a:gd name="adj3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ангвиники: гиганты нервной системы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Оптимисты. Меньше всех болеют, мало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пят. Обладают огромной работоспособностью. Речь и движение почти всегда так же быстры, как у холериков, но чувства не бурные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быстроменяющиеся. Как правило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орошие работники. Но заставит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ботать сангвиника трудно. Его нужно заинтересовать- тогда он горы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двинет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4932360" y="4076640"/>
            <a:ext cx="4211640" cy="2233800"/>
          </a:xfrm>
          <a:prstGeom prst="wedgeRoundRectCallout">
            <a:avLst>
              <a:gd name="adj1" fmla="val -45629"/>
              <a:gd name="adj2" fmla="val 69333"/>
              <a:gd name="adj3" fmla="val 16667"/>
            </a:avLst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Флегматики: сильная, уровнавешенная  нервная система. Чувства постоянные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о не ярко выраженные. Движения и речь спокойные, размерен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еакция на неожиданное воздействие запаздывает. Чтобы флегматик хорошо работал, его необходимо время от времени встряхивать»: устроить разбор выполненной им работы, поругат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ли, наоборот, похвалить его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0" y="1413000"/>
            <a:ext cx="4500720" cy="2303280"/>
          </a:xfrm>
          <a:prstGeom prst="wedgeRoundRectCallout">
            <a:avLst>
              <a:gd name="adj1" fmla="val -35504"/>
              <a:gd name="adj2" fmla="val 62541"/>
              <a:gd name="adj3" fmla="val 16667"/>
            </a:avLst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Меланхолики: легко ранимые, склон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 постоянному переживанию различных событий, они остро реагируют на внешние факторы. Свои переживания он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частую не могут сдерживать усилие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оли, повышенно впечатлительны, легко эмоционально ранимы, быстро устают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 высоких нервных напряжениях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Очень мягкие, доброжелатель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4716360" y="1341360"/>
            <a:ext cx="4427640" cy="2305080"/>
          </a:xfrm>
          <a:prstGeom prst="wedgeRoundRectCallout">
            <a:avLst>
              <a:gd name="adj1" fmla="val -32037"/>
              <a:gd name="adj2" fmla="val 62467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олерики: прямая противоположность меланхоликам. Наступательный характер, всегда идут на встречу трудностям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Любые переживания ведут к действию. Мягких замечаний не воспринимают, жесткие- приводят к бунту. Главные нарушители дисциплины, быстрые, порывистые, однако совершенно неуравновешенные, с резко меняющимся настроением, с эмоциональными вспышками, быстро истощаем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Меланхолики, холерики, флегматики, сангвини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Содержимое 4" descr="Они были меланхоликами."/>
          <p:cNvPicPr/>
          <p:nvPr/>
        </p:nvPicPr>
        <p:blipFill>
          <a:blip r:embed="rId1"/>
          <a:stretch/>
        </p:blipFill>
        <p:spPr>
          <a:xfrm>
            <a:off x="428760" y="1714680"/>
            <a:ext cx="1643040" cy="1785600"/>
          </a:xfrm>
          <a:prstGeom prst="rect">
            <a:avLst/>
          </a:prstGeom>
          <a:ln w="0">
            <a:noFill/>
          </a:ln>
        </p:spPr>
      </p:pic>
      <p:pic>
        <p:nvPicPr>
          <p:cNvPr id="177" name="ileft" descr="Меланхолик Есенин"/>
          <p:cNvPicPr/>
          <p:nvPr/>
        </p:nvPicPr>
        <p:blipFill>
          <a:blip r:embed="rId2"/>
          <a:stretch/>
        </p:blipFill>
        <p:spPr>
          <a:xfrm>
            <a:off x="2571840" y="1714680"/>
            <a:ext cx="1190520" cy="1785600"/>
          </a:xfrm>
          <a:prstGeom prst="rect">
            <a:avLst/>
          </a:prstGeom>
          <a:ln w="0">
            <a:noFill/>
          </a:ln>
        </p:spPr>
      </p:pic>
      <p:pic>
        <p:nvPicPr>
          <p:cNvPr id="178" name="ileft" descr="сангвиник наполеон"/>
          <p:cNvPicPr/>
          <p:nvPr/>
        </p:nvPicPr>
        <p:blipFill>
          <a:blip r:embed="rId3"/>
          <a:stretch/>
        </p:blipFill>
        <p:spPr>
          <a:xfrm>
            <a:off x="1000080" y="3929040"/>
            <a:ext cx="2928960" cy="2170080"/>
          </a:xfrm>
          <a:prstGeom prst="rect">
            <a:avLst/>
          </a:prstGeom>
          <a:ln w="0">
            <a:noFill/>
          </a:ln>
        </p:spPr>
      </p:pic>
      <p:pic>
        <p:nvPicPr>
          <p:cNvPr id="179" name="ileft" descr="холерик Пушкин"/>
          <p:cNvPicPr/>
          <p:nvPr/>
        </p:nvPicPr>
        <p:blipFill>
          <a:blip r:embed="rId4"/>
          <a:stretch/>
        </p:blipFill>
        <p:spPr>
          <a:xfrm>
            <a:off x="5357880" y="1714680"/>
            <a:ext cx="1425600" cy="174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1" descr=""/>
          <p:cNvPicPr/>
          <p:nvPr/>
        </p:nvPicPr>
        <p:blipFill>
          <a:blip r:embed="rId5"/>
          <a:stretch/>
        </p:blipFill>
        <p:spPr>
          <a:xfrm>
            <a:off x="7358040" y="1714680"/>
            <a:ext cx="132876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357800" y="1856880"/>
            <a:ext cx="1000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6"/>
          <a:stretch/>
        </p:blipFill>
        <p:spPr>
          <a:xfrm>
            <a:off x="6000840" y="371484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Характер- это совокупность устойчивых индивидуальных особенностей личности, складывающихся и проявляющихся в деятельности и общении, обуславливающих поведении в той или ин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Человек не рождается с хорошим или плохим характер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Verdana"/>
              </a:rPr>
              <a:t>Характер нужно формировать, строить, постоянно над ним работать в течении всей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826920" y="0"/>
            <a:ext cx="7201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характер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860904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арактер проявляется в системе отношений: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в отношении к другим людя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общительность – замкнутость, правдивость- лживость и т.д.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 отноше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к дел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ответственность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недобросовестность, трудолюб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леность, и т.д.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 отноше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 себ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скромность – самовлюбленность 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ордость или приниженность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в отношении к собственност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щедрость или жадность, бережлив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расточительн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Способности- это индивиду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свойства личности, которые являются условиями успешного осуществления  определенного рода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У всех людей они разные, развиваются и формируются только в деятельности и общ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WordArt 5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7044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особности подразделяю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на общие (проявляющиеся в общении, взаимодействии с людьми): внимание, воображение, память, мышление и р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На специальные (качество, обеспечивающее успех в конкретном виде деятельности)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учебные и творческие, математические, конструктивно-технические, музыкальные, литературные, художественно-изобразительные, физические способ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2340000" y="33336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4d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.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4d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2:06:09Z</dcterms:created>
  <dc:creator>Лена</dc:creator>
  <dc:description/>
  <dc:language>en-US</dc:language>
  <cp:lastModifiedBy>SamLab.ws</cp:lastModifiedBy>
  <dcterms:modified xsi:type="dcterms:W3CDTF">2012-02-02T04:09:28Z</dcterms:modified>
  <cp:revision>55</cp:revision>
  <dc:subject/>
  <dc:title>Слайд 1</dc:title>
</cp:coreProperties>
</file>